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BE0-68FF-4B11-B3D7-DFC7BAB8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9A8-EA9B-4F90-9518-C786120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0D6-B17F-40B4-87AC-552C4F1C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A20-0F38-46AB-82CF-0064832B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B69-98F6-4488-985F-C5D38791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1452-8E81-4C1A-9731-70BF7D2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1F3A-591B-42F1-9329-9820FB07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E49-D24F-4728-92F0-4A982D16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26FB-34BE-49B5-B6C8-3783F80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6F32-825A-4D25-8550-03198F8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982E-4C21-4693-B3C9-9A10181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1CE-F7D5-4C7F-856A-56EB9E1A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19AE-7C67-4E4B-A2A1-4DF9008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5C08-70B0-4A5D-A6F6-CE43D5C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6199-D4A0-464C-9CCD-D2472E7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07C8-C26D-4E89-8521-E0166F50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D252-2C7B-4FD0-8D80-14FE6F15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EF2B3-7D8A-4250-80D8-B6CE5618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CC0A1-68BC-461B-A7EC-355DB5F7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B7E84-0E43-4B40-86F8-A7EA247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482D2-65AB-4DF1-82BD-114AA23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3E9CD-17F8-47F6-A332-A728EB2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C8D-F4EF-40AA-A6B4-2F905D0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5562E-7031-48D4-B089-EF495055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B3B9E-352A-4B0F-B8A1-C5A9D2B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1F842-7E13-4517-A294-1C821A22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8426E-ED68-4A68-AA47-49F9DEA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19B3F-4E81-4D69-9DAC-B9CF291E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C328F-2592-4054-B835-C408FEF1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0467C-6452-4196-9DE4-79305A93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C9E6-E407-4195-A069-2AEC3AE2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E80F-E7B9-4B43-8691-7484AB64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4BF9-2651-435F-89C8-DB8948D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D31-1A0A-4D8F-B5EB-4FE8A51D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028B-ABBC-43E1-A0F5-BE4BB569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825C-2DCE-4BB2-966C-E6D7B706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34B3-2F1D-4F30-B48E-748873C8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92AB-164C-409C-874A-1A22AA06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D7D0-F4D3-4FD2-86DE-4A762442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6CC1-899C-49AE-AB41-10ABD7B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A2C2-87B5-4119-9109-3089E1E7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AB54-B3CA-4D6A-8891-48CEB403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2B83-97E2-4BC1-B768-4D315899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D2536-08DF-49F7-B328-835314CA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84A-1FCF-46B1-A072-16432F4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8C932-F663-4BB9-AD60-A132A2A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7E992-8FCD-4C34-AADF-6889CAF0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3FA07-C507-4AD5-ACE4-8E3FCAC2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C31D7-3885-4A85-AED4-9C393A1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FBF42-B555-4078-ACBC-C23EE83A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1020F-F0D3-4251-9B6F-1E247937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74461-EE89-4D10-8171-F9AC680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B84BB-56E0-4575-8808-90D2948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4573F-FD7C-41A5-BB9E-09CE448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32042-58AE-47DB-8C30-A8AE17E5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FA7-5C6B-4020-A90E-C2F139AE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83EEF-C29B-4914-8CE2-C7AB589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4A55F-C063-40D5-AE31-56884D21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77CE6-7E48-4229-A916-32F2A937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1E049-C980-4F19-94C3-4757EF80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0F7B9-6379-461A-8732-518E2EE1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12261-B9EB-4AB2-876B-AB578E42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B2A0D-37D8-4159-8BF4-60BF0FD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687D4-1B64-45AE-8B28-CF0E7955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F3B3E-2C26-4647-8064-6FEDF22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2456D-0F5B-45CF-98A4-36C1F8E8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98C-4E41-4E42-84E5-39C376D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8BE6D-3A14-4AE4-A992-0D2D5188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7B701-6CA3-43F7-9C1C-DD5B9AED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58D76-A4AF-4042-8576-CC0D4B47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EAB77-D844-4B94-90B9-75CD18D9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E1188-2282-4BF9-8813-0474347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92895-BF97-4F37-B20C-36351630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C4F3B-529E-40FD-9A44-D0D9026F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F33B1-AE10-47E5-BC4E-FB1CC680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EC6C2-9698-41F4-B2DA-5AC8B57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CFC03-814A-4057-8A2F-3733CEB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34F-61D6-43ED-853B-ACB4F87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6341A-9D73-4B19-B50B-A68911C6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4847F-BF2E-4644-9686-3715EA5B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C9404-313E-4C0F-9637-023DAA17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154DD-6D48-4139-83B0-22ED7485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235F2-6550-46C8-AE8A-4F684FC6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CD4-D3EC-4A4D-B0E0-BC839F4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963B-EDDB-49D0-8D92-241828568C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258-D7D4-43B9-8B64-BA6DD225AD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A8C5-DCA5-4C2A-AE77-2D87423E9A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37E-8C2A-4244-BEB5-D312F1284B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D1B-EE21-4CFF-8A25-A2925A9CA3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761-04A2-4CB4-BA44-E998E3421E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2C80-04A2-44F1-9BA7-C9AB9CFD1D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EMIST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at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Users\Lab1\AppData\Local\Microsoft\Windows\Temporary Internet Files\Content.IE5\90Z2KWW2\MC900441715[1].png"/>
          <p:cNvPicPr/>
          <p:nvPr/>
        </p:nvPicPr>
        <p:blipFill>
          <a:blip r:embed="rId1"/>
          <a:stretch/>
        </p:blipFill>
        <p:spPr>
          <a:xfrm>
            <a:off x="5638680" y="3581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IT SUMM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the properties of matter, including the skills for measuring the chemical and physical properties of matter. As a group, they will apply this knowledge to a ‘mysterious’ substance. After measuring the properties, they will problem solve (using the engineering and design framework) to find a ‘real world’ use for their substance that would make life easier for someone they know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ESSENTIAL QUESTION: </a:t>
            </a:r>
            <a:br>
              <a:rPr sz="3000"/>
            </a:br>
            <a:r>
              <a:rPr b="1" lang="en-US" sz="2000" spc="-1" strike="noStrike">
                <a:solidFill>
                  <a:srgbClr val="fff39d"/>
                </a:solidFill>
                <a:latin typeface="Century Schoolbook"/>
              </a:rPr>
              <a:t>WHAT DOES IT TAKE TO CHANGE THE WORLD?</a:t>
            </a:r>
            <a:endParaRPr b="0" lang="en-US" sz="2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742840" y="3352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Unit Question: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Does matter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CONTENT QUESTIONS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60958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hat is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How can you measure matter?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hat are the chemical properties of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hat are the physical properties of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4:16Z</dcterms:created>
  <dc:creator>Lab1</dc:creator>
  <dc:description/>
  <dc:language>en-US</dc:language>
  <cp:lastModifiedBy>Lab1</cp:lastModifiedBy>
  <dcterms:modified xsi:type="dcterms:W3CDTF">2010-08-03T20:01:00Z</dcterms:modified>
  <cp:revision>2</cp:revision>
  <dc:subject/>
  <dc:title>Chemistry</dc:title>
</cp:coreProperties>
</file>